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FA7C8-B5A9-429F-82BF-8A2D0DDE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F7284-BD01-4BC0-91A5-F9CF4898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98A95-781C-414C-B180-457AFFB5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AD4D5-3372-47FB-85F4-C7C6EE74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E0CA-DC5E-43A0-8E08-1351C4CE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9B57-2629-497A-AA5E-50063FBF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530B-FE2F-4361-97C7-A6BDB656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A72F-864F-43FB-9E0A-F22F3714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9673-CD0E-4678-A03A-C5A69769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69C2-4DF5-4D22-A6C5-819B1937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24C4-7E16-4E73-A181-60AAE633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2C5AC-EEB2-4399-8521-BC3A7F90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FD2F-3E25-4A46-ABDD-64A6AA89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9A52-EBD5-4ECD-B454-FC0F035A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45B8-3D46-45F0-95E8-EA40B3E8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EB3E-1E5C-456B-9B8E-8E4E3548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B19F-8D07-4244-ADA8-888FB5C7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D3914-8305-407D-8E77-615F1C26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75AED-7EA3-4BF1-AC48-64A9E005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8CED-0776-4AD9-884F-980C51F2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4525-D47A-4D30-BB9F-0B9217A9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4DB7F-0B81-40D5-9CE6-FFC5BB16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0E1ED-524E-413C-BF9A-54429895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0683C-0F26-4E8F-8B01-AB0E5F15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16EE-F0EF-4449-9983-68D37C884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9A7C-9304-4AB6-A99D-94D4A953C2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Illogical Shifts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sentence that has no error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hether a person is young or old, he 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he can still enjoy the benefits of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xercise.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ether a person is young or old, you ca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ill enjoy the benefits of exercis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Whether a person is young or old, the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n still enjoy the benefits of exercis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sentence that has no error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21896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Whether a person is young or old, h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or she can still enjoy the benefits of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exercise.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ether a person is young or old, you ca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ill enjoy the benefits of exercis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Whether a person is young or old, the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n still enjoy the benefits of exercis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sentence that has no error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lthough I liked my classes, I change m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ajor to something more practical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lthough I liked my classes, I changed m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ajor to something more practical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lthough I liked my classes, I changing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y major to something more practic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sentence that has no error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lthough I liked my classes, I change m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ajor to something more practical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Although I liked my classes, I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hanged my major to something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more practical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lthough I liked my classes, I changing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y major to something more practic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are shifts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hift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inconsistencies in writing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avoid shifts, make sure that all the verbs in a sentence that describe actions happening at the same time are in the same tense: all in the present, all in the past, or all in the future. This is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sistent tens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CONSISTENT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so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laye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ockey until h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reak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is le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SISTENT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so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laye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ockey until h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rok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is leg. [Both verbs ar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now in the past tense.]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are shifts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, all nouns and pronouns in a sentence should be consistent i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ers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or point of view: first person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/w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, second person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, or third person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he/she/it/the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CONSISTEN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ude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ind Professor Bell’s class difficult, but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an succeed if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SISTENT  Stude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ind Professor Bell’s class difficult, but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an succeed if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ry. [The sentence stays in the third person instead of shifting from third person to second person.]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sentence that has no erro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Job applicants should make sure that thei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ésumés are up-to-dat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Job applicants should make sure that h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ésumé is up-to-dat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 job applicant should make sure 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ir résumé is up-to-dat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sentence that has no erro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Job applicants should make sure that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heir résumés are up-to-dat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Job applicants should make sure that h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ésumé is up-to-dat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 job applicant should make sure 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ir résumé is up-to-dat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sentence that has no error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ost successful athletes must practice his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kills on a regular bas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ost successful athletes must practic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ir skills on a regular bas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Most successful athletes must practic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ur skills on a regular bas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sentence that has no error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ost successful athletes must practice h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kills on a regular bas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Most successful athletes must practice 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heir skills on a regular bas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Most successful athletes must practic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ur skills on a regular bas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sentence that has no error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o surprise Ed, I jumped out of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shes as he walks b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o surprise Ed, I jumped out of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shes as he walk b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o surprise Ed, I jumped out of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shes as he walked b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sentence that has no error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o surprise Ed, I jumped out of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shes as he walks b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o surprise Ed, I jumped out of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shes as he walk b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To surprise Ed, I jumped out of th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shes as he walked b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6:19:37Z</dcterms:created>
  <dc:creator>BSM</dc:creator>
  <dc:description/>
  <dc:language>en-US</dc:language>
  <cp:lastModifiedBy>BSM</cp:lastModifiedBy>
  <dcterms:modified xsi:type="dcterms:W3CDTF">2008-02-14T15:50:07Z</dcterms:modified>
  <cp:revision>117</cp:revision>
  <dc:subject/>
  <dc:title>Sentence Fragments</dc:title>
</cp:coreProperties>
</file>